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A4C-6E29-4640-9123-6A8CC35E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1A1-4433-43A5-8230-4D69F888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427-EF7E-48EF-B406-F32D74A6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3DC-09B9-4266-894E-2CD10A51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890-26F8-4229-BDFB-78EF1C94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D4D-3249-4417-B066-A450119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FDE-1A02-4369-A3A3-EBCEAB68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F62-12E8-4AE9-AB62-B0911A34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1C3-C5C1-431B-9C9A-0CD09F38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15E-7771-419E-B153-56E32DD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4BA-E8A4-4BEA-95BF-8E90B3E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9C1-AC0C-4C67-AE21-EEF0E74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0DAE-F570-4B25-B43C-D7888BD942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1-10-20T13:13:13Z</dcterms:modified>
  <cp:revision>62</cp:revision>
  <dc:subject/>
  <dc:title>No Slide Title</dc:title>
</cp:coreProperties>
</file>